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81A-23D8-445E-8FC1-4D5D00AE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4636-94C5-4B9E-9510-EFE964C1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552-4F38-47BD-86DF-8716809D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93FD-833F-4171-A1BC-0BC0C0C6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3934-E288-4867-8F5C-0D3DF484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FA5B-6CAF-4126-9E64-1E99C48E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2676-22D2-49A4-B61A-8A37C057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F27C-D4B1-4855-AF6D-00194160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F949-BBED-4A05-AA75-D1BF44AA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A2B3-01CA-4A51-8AB4-02396294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DBF8-C399-4EDC-A6F1-7226B039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93EC-CD0B-4A7E-AAD5-246D03AC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89EB-8F94-4BDB-B960-849868EB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9EEA-C89E-49CD-AA9E-1A2B391F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3CA6-5962-4953-9A81-7E36D6F6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B219-7827-4AF6-91F6-1DEF63D9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B6D3-D169-4900-868D-4179F369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36C7-AEAA-4AFD-B21B-BCF48F2F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51BD-C282-4D9D-8D87-168DEF7D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9698-415B-4248-959D-1F68C640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4DF-58C1-488F-B52F-ABA8BBCA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6F89-3977-44E4-8DF0-91DB6C9F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6AF-8E4B-411D-AB91-5512136C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A6D7-E299-443B-9572-70D43C3F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F610-9811-4367-A690-009078167A8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BF9B-549E-4ABE-B0E0-2CD6B650AD9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eocities.com/theawakeningnews/satan_sign.gif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ical View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s new Shape came out in 195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s of the Dollar B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tton &amp; Linen Blend with Red and Blue minute silk fibers running through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you ever washed money and noticed that it did not fall apar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09680" y="3124080"/>
            <a:ext cx="4953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5588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Finally …….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Have you ever heard that the number 13 is an unlucky number?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 Stars above the Ea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 Bars on the Sh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 Steps on the Pyram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 Letters in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UIT COEPTIS “God Had Favored our undertaking”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 leaves on the olive bran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 ar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Triggers Right ?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ome Interesting Facts ………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ight Wing of the Eagle has 32 fea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Left Wing of the Eagle has 33 fea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 feathers on the Eagle’s t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2209680"/>
            <a:ext cx="61722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Number Of Ordinary Degrees in Freemason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038480"/>
            <a:ext cx="61722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Additional Feather corresponds for the Outstand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asonic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715000"/>
            <a:ext cx="61722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ason’s reference to the 9 chapters in their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 Guess You Might Want To Look On Your Dollar Bill Once More…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7111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Hidden Secrets &amp; Its Interpretation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534160" cy="3962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28800" y="43434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91520" y="43434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6172200"/>
            <a:ext cx="1828800" cy="45720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#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6095880"/>
            <a:ext cx="1828800" cy="45720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#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533520"/>
            <a:ext cx="5181840" cy="609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Back Bone Of the One Dollar Bi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586764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228600" y="533520"/>
            <a:ext cx="26668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nuit Coept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od Has Favored our undertakin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76520"/>
            <a:ext cx="304812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yramid being un-capped me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at we’re not even close to being finish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819520"/>
            <a:ext cx="251460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all seeing Ey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gn of Divi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4114800"/>
            <a:ext cx="251460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man Numeral for 177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5334120"/>
            <a:ext cx="251460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VUS ORDO SECLOROM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 new order has begu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895480" y="914040"/>
            <a:ext cx="1905120" cy="228600"/>
          </a:xfrm>
          <a:prstGeom prst="line">
            <a:avLst/>
          </a:prstGeom>
          <a:ln w="76320">
            <a:solidFill>
              <a:srgbClr val="9307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047760" y="1981080"/>
            <a:ext cx="2438280" cy="533520"/>
          </a:xfrm>
          <a:prstGeom prst="line">
            <a:avLst/>
          </a:prstGeom>
          <a:ln w="76320">
            <a:solidFill>
              <a:srgbClr val="9307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895120" y="1905120"/>
            <a:ext cx="2667240" cy="1143000"/>
          </a:xfrm>
          <a:prstGeom prst="line">
            <a:avLst/>
          </a:prstGeom>
          <a:ln w="76320">
            <a:solidFill>
              <a:srgbClr val="9307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2895120" y="4343400"/>
            <a:ext cx="2057400" cy="76320"/>
          </a:xfrm>
          <a:prstGeom prst="line">
            <a:avLst/>
          </a:prstGeom>
          <a:ln w="76320">
            <a:solidFill>
              <a:srgbClr val="9307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895480" y="5334120"/>
            <a:ext cx="1905120" cy="228600"/>
          </a:xfrm>
          <a:prstGeom prst="line">
            <a:avLst/>
          </a:prstGeom>
          <a:ln w="76320">
            <a:solidFill>
              <a:srgbClr val="9307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4191120"/>
            <a:ext cx="1676160" cy="533160"/>
          </a:xfrm>
          <a:prstGeom prst="ellipse">
            <a:avLst/>
          </a:prstGeom>
          <a:noFill/>
          <a:ln w="76320">
            <a:solidFill>
              <a:srgbClr val="9307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5943600" cy="6248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" y="838080"/>
            <a:ext cx="251460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riginal Colonies as they come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ogether as on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905120"/>
            <a:ext cx="251460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 PLURIBUS UNUM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ut Of Many 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971800"/>
            <a:ext cx="251460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supported Shield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Country Can Stand on Its 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4114800"/>
            <a:ext cx="251460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live Branch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gn Of Pe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5257800"/>
            <a:ext cx="251460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rrow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gn of War  to preserve Pe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2819520" y="1066680"/>
            <a:ext cx="2590560" cy="457200"/>
          </a:xfrm>
          <a:prstGeom prst="line">
            <a:avLst/>
          </a:prstGeom>
          <a:ln w="76320">
            <a:solidFill>
              <a:srgbClr val="9307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895480" y="2209320"/>
            <a:ext cx="2362320" cy="228600"/>
          </a:xfrm>
          <a:prstGeom prst="line">
            <a:avLst/>
          </a:prstGeom>
          <a:ln w="76320">
            <a:solidFill>
              <a:srgbClr val="9307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2895480" y="3200400"/>
            <a:ext cx="2438640" cy="457200"/>
          </a:xfrm>
          <a:prstGeom prst="line">
            <a:avLst/>
          </a:prstGeom>
          <a:ln w="76320">
            <a:solidFill>
              <a:srgbClr val="9307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895480" y="4114800"/>
            <a:ext cx="1067040" cy="152280"/>
          </a:xfrm>
          <a:prstGeom prst="line">
            <a:avLst/>
          </a:prstGeom>
          <a:ln w="76320">
            <a:solidFill>
              <a:srgbClr val="9307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895480" y="4419720"/>
            <a:ext cx="4267440" cy="1143000"/>
          </a:xfrm>
          <a:prstGeom prst="line">
            <a:avLst/>
          </a:prstGeom>
          <a:ln w="76320">
            <a:solidFill>
              <a:srgbClr val="9307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2539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What Is Hidden ??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562720" cy="556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657600" y="6095880"/>
            <a:ext cx="243828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763120" cy="5638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828800" y="6095880"/>
            <a:ext cx="5715000" cy="6098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Owl” Means they are watc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’s a Sign Of  A Curse in Masonry &amp; Satanic Belief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0520" y="152280"/>
            <a:ext cx="2448000" cy="1581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28600" y="1752480"/>
            <a:ext cx="2190600" cy="1886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228600" y="3886200"/>
            <a:ext cx="2481120" cy="2743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895480" y="2495520"/>
            <a:ext cx="3267360" cy="4286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6305400" y="1752480"/>
            <a:ext cx="2762280" cy="228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5867280" y="4343400"/>
            <a:ext cx="3276720" cy="2365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2019240" y="0"/>
            <a:ext cx="1714680" cy="1905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" y="457200"/>
            <a:ext cx="1447920" cy="990720"/>
          </a:xfrm>
          <a:prstGeom prst="rightArrow">
            <a:avLst>
              <a:gd name="adj1" fmla="val 50000"/>
              <a:gd name="adj2" fmla="val 3653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n Lav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20:38:46Z</dcterms:created>
  <dc:creator>onouri</dc:creator>
  <dc:description/>
  <dc:language>en-US</dc:language>
  <cp:lastModifiedBy>AAA</cp:lastModifiedBy>
  <dcterms:modified xsi:type="dcterms:W3CDTF">2006-10-07T06:58:44Z</dcterms:modified>
  <cp:revision>7</cp:revision>
  <dc:subject/>
  <dc:title>Hidden Secrets Of the One Dollar Bill</dc:title>
</cp:coreProperties>
</file>